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gif" ContentType="image/gif"/>
  <Override PartName="/ppt/media/image9.png" ContentType="image/png"/>
  <Override PartName="/ppt/media/image13.wmf" ContentType="image/x-wmf"/>
  <Override PartName="/ppt/media/image6.png" ContentType="image/png"/>
  <Override PartName="/ppt/media/image7.png" ContentType="image/png"/>
  <Override PartName="/ppt/media/image11.wmf" ContentType="image/x-wmf"/>
  <Override PartName="/ppt/media/image12.png" ContentType="image/png"/>
  <Override PartName="/ppt/media/image8.png" ContentType="image/png"/>
  <Override PartName="/ppt/media/image10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C2C18-BCC1-43A9-81D5-A449FDB57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B0A44-06AE-4F04-A0D4-BE803B508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614FA5-8AB6-42F6-89A5-C3566D336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CE7F6E-715A-4D27-A7B7-2FD1C7F03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9EF454-4349-4515-9C24-C9E9BED30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F4C56C-AEEC-4F09-9764-B97ECCD49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CB887A-23DC-447B-AC75-A948B81B2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5677A5-6306-4A1F-9482-2BADFBD72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7AC918-D190-48A9-8018-233FA600F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CBCCF4-75C5-46EC-9C5A-DE96E51EE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D61168-1FB5-42C5-9911-F1B508146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8D94FC-B994-4E74-A020-98BE5248E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913DD-E22C-4DF0-860E-836F0A586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883A88-3B36-44AC-A54B-1420AAAD6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F546FE-A277-40C7-AFC4-EB96E2AD0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5090B0-5229-435A-AA49-939065225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7EF832-31D5-46AD-9B11-B4DB07038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FBB894-9A1A-435B-9CCB-2648E928D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ECE0E5-A762-4101-ACDE-025485496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EA4D49-D809-4E27-A515-CD06041FE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CB8035-362D-4E0D-84A0-B20FFFE0C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0E41B8-0F6F-4A44-9ED7-BCB60DC88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80B5A7-3F9F-452A-93F1-97CBFEF3B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8C619-8945-4A2B-AA9E-035155B0D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9A0A6C-2EE0-486A-9714-1FCB3F363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2F85AF-BB19-40F0-A7A3-F11BC91D8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5A14D0-4E04-471D-A99D-A1AF1E973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40D61E-9EF2-4E1B-89F7-7B1FF485B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BDC74D-A6E8-4A11-8AB4-8CCAE9F8A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37F01C-8548-4256-A830-E22380850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FF21AD-BD2F-436C-9E73-6AA58EFC4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766D40-8D05-43DC-AC62-915A7AB77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2CA8B3-09D4-4D56-B144-987A3D292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A99554-3951-4767-BCF7-415BBE4C2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9A309-099D-42C2-8224-06C9F724A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84E295-76DD-4314-8CE3-2AF12B4F7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87BA95-67CC-453E-BBEB-0DAC89F1B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6E2CA0-F495-4ABE-A7C3-8D9FD79A9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FFF3DD-D87E-4159-AB59-CDA25D7AA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920D29-BE72-4E27-A1DC-2954B4A5B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62A5F9-250D-4D02-B1BC-49FEC44A2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2C632E-B2B4-492B-9289-60AB3E7B9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A51FD0-8415-441E-B2DC-CF37A4189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C61E3C-D26B-42D9-AD5E-02FFA1170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77CA2E-4F83-4776-97F2-9C7EE6543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10C66-2C56-4478-A103-6D53ED963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490B7D-9F5C-4105-AE34-3D8BFE82E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E6A1E2-A8A8-49DD-AC60-BA6B55649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2D1EB5-8697-499F-9EE9-CB4629772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C17214-2225-4515-B607-0D65E3BBC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3C9E70-60E9-4BC6-90DE-2071BA24F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4AB07C9-17A8-4FBE-B056-B499A7791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B3844AC-31E0-42B7-A700-CAE051C71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8A1D62F-9758-4E86-B42E-12DA46BE1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6A3689F-1522-4574-9495-BE94E72CF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1BEB4D7-63E9-4BB7-A030-563C1F96E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0CC06-679C-4131-B00B-9C28DE799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BCC4DBA-16A3-424C-A702-1C07C3F9A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0C651C0-F07A-49B7-B6E6-DC212A209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19CD928-8500-43B7-9CA5-9A39D4ED6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82EFFA1-2803-4E2D-A3C9-7A02D22A3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D10F08E-84D5-4D34-8328-4BE2EE9A3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B932E5A-5C15-4870-880E-06176B3E0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E156B90-5665-468B-98F1-64A61AE2A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1EF28-D1D7-42E0-BB48-09FEA8488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F9609-51AF-41DD-B9BD-08DAC16D2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3AD63-41B4-4FD2-BA69-365EBCD62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B5B03-431B-46AF-B59A-ACEE23958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D0EB0-C3A6-4CD0-9E58-8CF3E066A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749FD-A6D7-4BA5-9D61-3E7D397CF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8899D-213A-4956-86D0-730D5C3AA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1035C-7720-46A8-BCBF-A4B796865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F4EEE-9255-4C68-9A1E-0F666169C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E1B32-69EC-4F01-9FDA-C2A0CE72C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4CEF1C-3A3D-4E76-A5A9-303B2ADBE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6CBCCF-9A2C-4C76-AE07-388231224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8FC563-0CD5-4250-8A59-8BB9E83A5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BC303C-775B-4438-B4A9-36F6F3041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20D832-78D6-40FF-8E95-7A96FFAC8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20DDE-EDC8-42F0-829A-FD10ADDA1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A89CC4-4CF4-4E8F-8ECC-31E8780AB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558274-2591-46E1-8941-B6C8CF1D7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ED8140-A844-49DE-9E2E-DD4EA200D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9CA023-C4EF-4A30-A911-E13172659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C63E59-CFAF-4BAF-9AB9-ABBE8BAD9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E060B8-7B43-4DB9-A703-A30471C6D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485921-3B93-48BB-AE15-FD872509D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21AD95-D613-482C-A4E7-6A016CB89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180345-693C-4179-8142-A9A1344E8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559E57-20C7-4679-930D-03D2EA707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25051-9513-47B8-A2FC-4B72BBAB2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1B4CB6-C14C-4148-B55C-C9E8FCC9A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4B14B6-C0C0-4765-81BF-E9410D118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89A989-67C3-48F5-B0E8-BA6988A06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E8F0E5-9EF9-421F-BD65-516BF0F7F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31E355-E376-4CB3-B577-DF0C35F40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DBF421-1BFF-49EB-88FA-741EAFA16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91A85F-2DA7-40A3-B3E8-6E8F6AAE1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1B71A3-B2D4-4FCE-AC32-7D8D95580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3512CF-1423-48FE-824E-AA638808A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77F39F-3DD2-468D-AE1A-347201218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70650-CEE7-4EE4-9AE6-52F4A0852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098153-6617-4554-97F7-A227B5009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42A5F1-BFA9-46EF-A4CC-77961FC10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376301-4588-4863-9A72-A572DF4E4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F55988-D9D0-45FD-9C5E-79F775C12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C051DC-48C6-426C-B60D-8A3F294B9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BC43E5-6747-4228-B317-6BCE85B97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C28235-C6BB-480F-BF0E-240A0EB36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A100E5-E224-40A0-87F1-2535253B8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074EC2-7112-4F0F-850C-3CACC72B3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F2CDD3-2D61-4EEA-AEEF-F9A07B49D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F452E-778D-4F01-AC83-186750854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CF41C5-DE7A-44D3-8571-2D788A3B2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990344-8E0D-4357-883E-45AE9A5EE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1E071B-7008-4B0F-B730-E8CF07A4E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D005E7-1369-4002-A5A8-D1C168439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A284B3-07E4-4B45-8E89-A06BAE1D4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0BDBF0-E958-4F51-9881-48AB0FA3D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5B1AE4-CE4E-40F7-8884-6B12C79BA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2A420D-DFC5-40F2-855B-BA944C39E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21EE4B-F32D-4DB7-96A8-02D67CDC3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25332A-E6A8-406D-AA7C-E0A197D69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68706-0EE6-4C54-AF5D-5DF2DEB27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85D5A8-F6A0-4692-9D07-A3CF24474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CA1F5D-8080-4FD9-865F-DCBBA9A67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8B9E93-B444-48C9-BC8B-2EA3A963B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F281A5-61F6-446C-910B-B1B94A465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5C846E-F79A-40E7-B7C7-3BE63F6AB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1D50EA-6BBD-4F29-A552-653B44880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653B39-A1EE-4D81-84DA-8581FDE13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2AE581-4BBD-4BAA-A0CE-9B2137753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BD527C-1C3B-43AC-B442-0D8E5E067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B3C286-A02C-4C7C-8EDC-6CD97BD38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82FB0-9083-411B-955B-BB9E57F78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8973B6-528D-40E6-AB22-52DFACDA8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303E75-724D-4D0D-8F3B-3464A4FA2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80A4FD-A43F-4C1A-AFBC-394546958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ED2A64-1A62-4FB0-AB42-764BC0471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F56640-B345-49FD-A2CF-E63B079ED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73468A-DEBB-45CB-87AA-FA63D4AB4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63F15D-2B0F-42B6-865A-982853167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0781F4-D791-4238-846A-A928D4B65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AF1B57-D051-4BF5-A30F-2F6DCD81C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1BD2BC-8651-4BE9-9E70-A9196F0CD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FE9C4-CC2A-49DB-AAFB-DB285FD78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A33F0D-E82F-4770-9926-192A57E26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0022B3-1A84-49DC-8692-75C1EDEF5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A92F7D-32CB-42BB-893A-9D70F316D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D69E2A-7B78-45A9-873E-9E5B059EE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5CFE3F-7DF0-46AF-B4E7-444A5811D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75A148-6F2D-49DC-94FA-BF5C4D4C3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ABEDD4-5D31-4A1C-9C88-871331A3D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F1EF1B-8366-4EFF-BF93-A90025964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4D77A1-E20F-4E26-B56A-C0F52394C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714FAB-D7E0-416E-834A-EF10B176E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4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4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4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4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4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4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4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4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4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4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E9F26-F557-4CB3-A3CA-715E15EB1A0A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Slika 3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A117D-831C-4E5D-A883-B6F8B4A9F004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Slika 3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BFB71-B8D2-4DEC-A047-6A671F02FF88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Slika 3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85544-2007-44ED-B89D-6926EB0928F7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3" name="Slika 3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DD9DB-481C-466B-868F-3B3546195AB1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B84CF-D4AD-4FDE-A260-0DB0F02DE13A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Slika 3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Slika 3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A4790-9286-4D70-A3A1-AB4CFD4A0158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Slika 3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456BD-E64A-40EF-AE88-52B749D4F522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Slika 3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71ED2-7FB7-4108-B34C-892B67E94D45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Slika 3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58E12-115A-44B0-B41A-59A83A34229D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Slika 3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7CA18-A7BA-432C-A56B-0BD99053C4E3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Slika 3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B1AE5-66BE-4A0B-BEA3-987C3D600832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Slika 3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82A42-E8D1-4AF7-A2B2-5EA91DC62B49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image" Target="../media/image6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image" Target="../media/image5.gif"/><Relationship Id="rId4" Type="http://schemas.openxmlformats.org/officeDocument/2006/relationships/image" Target="../media/image5.gif"/><Relationship Id="rId5" Type="http://schemas.openxmlformats.org/officeDocument/2006/relationships/image" Target="../media/image5.gif"/><Relationship Id="rId6" Type="http://schemas.openxmlformats.org/officeDocument/2006/relationships/image" Target="../media/image5.gif"/><Relationship Id="rId7" Type="http://schemas.openxmlformats.org/officeDocument/2006/relationships/image" Target="../media/image5.gif"/><Relationship Id="rId8" Type="http://schemas.openxmlformats.org/officeDocument/2006/relationships/image" Target="../media/image2.png"/><Relationship Id="rId9" Type="http://schemas.openxmlformats.org/officeDocument/2006/relationships/image" Target="../media/image4.jpeg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image" Target="../media/image2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image" Target="../media/image5.gif"/><Relationship Id="rId4" Type="http://schemas.openxmlformats.org/officeDocument/2006/relationships/image" Target="../media/image10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4.jpeg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Calibri"/>
              </a:rPr>
              <a:t>Kolika je sila teža, a kolika teži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6" name="Slika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 txBox="1"/>
          <p:nvPr/>
        </p:nvSpPr>
        <p:spPr>
          <a:xfrm>
            <a:off x="744480" y="3068280"/>
            <a:ext cx="7416720" cy="201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-45252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Na sva tijela u blizini Zemlje djeluje sila koja će uzrokovati njihov pad, ako su slobodna u zraku. Ta se sila zove </a:t>
            </a: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sila teža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8" name="Slika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549" name="Pravokutnik 1"/>
          <p:cNvSpPr/>
          <p:nvPr/>
        </p:nvSpPr>
        <p:spPr>
          <a:xfrm>
            <a:off x="744480" y="1093680"/>
            <a:ext cx="741672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Kolika vam je težin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A čime ste izmjerili svoju težinu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"/>
          <p:cNvSpPr txBox="1"/>
          <p:nvPr/>
        </p:nvSpPr>
        <p:spPr>
          <a:xfrm>
            <a:off x="394920" y="1989000"/>
            <a:ext cx="4608360" cy="377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Težina je sila kojom tijelo djeluje na mirnu vodoravnu podlogu ili na ovjes ako visi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Težinu tijela označavamo znakom </a:t>
            </a:r>
            <a:r>
              <a:rPr b="0" i="1" lang="pl-PL" sz="3200" spc="-1" strike="noStrike">
                <a:solidFill>
                  <a:srgbClr val="000000"/>
                </a:solidFill>
                <a:latin typeface="Calibri"/>
              </a:rPr>
              <a:t>G.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1" name="Picture 2" descr=""/>
          <p:cNvPicPr/>
          <p:nvPr/>
        </p:nvPicPr>
        <p:blipFill>
          <a:blip r:embed="rId3"/>
          <a:stretch/>
        </p:blipFill>
        <p:spPr>
          <a:xfrm>
            <a:off x="5086440" y="2276640"/>
            <a:ext cx="3662280" cy="2981160"/>
          </a:xfrm>
          <a:prstGeom prst="rect">
            <a:avLst/>
          </a:prstGeom>
          <a:ln w="0">
            <a:noFill/>
          </a:ln>
        </p:spPr>
      </p:pic>
      <p:pic>
        <p:nvPicPr>
          <p:cNvPr id="552" name="Slika 3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TextBox 4"/>
          <p:cNvSpPr/>
          <p:nvPr/>
        </p:nvSpPr>
        <p:spPr>
          <a:xfrm>
            <a:off x="539640" y="1341360"/>
            <a:ext cx="496908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  <a:ea typeface="Arial"/>
              </a:rPr>
              <a:t>Pokus: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  <a:ea typeface="Arial"/>
              </a:rPr>
              <a:t> kolika je težina uteg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SzPct val="10287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  <a:ea typeface="Arial"/>
              </a:rPr>
              <a:t>Koliki je količnik težine i mas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4" name=""/>
          <p:cNvGraphicFramePr/>
          <p:nvPr/>
        </p:nvGraphicFramePr>
        <p:xfrm>
          <a:off x="539640" y="2708280"/>
          <a:ext cx="4969080" cy="2160720"/>
        </p:xfrm>
        <a:graphic>
          <a:graphicData uri="http://schemas.openxmlformats.org/drawingml/2006/table">
            <a:tbl>
              <a:tblPr/>
              <a:tblGrid>
                <a:gridCol w="1333440"/>
                <a:gridCol w="887760"/>
                <a:gridCol w="923760"/>
                <a:gridCol w="1824120"/>
              </a:tblGrid>
              <a:tr h="789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jel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s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/k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ži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/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olični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G/m) / (N/kg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4572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vi ute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5 k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4572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ugi ute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k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4572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eći ute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k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</a:tr>
            </a:tbl>
          </a:graphicData>
        </a:graphic>
      </p:graphicFrame>
      <p:pic>
        <p:nvPicPr>
          <p:cNvPr id="555" name="Slika 3" descr=""/>
          <p:cNvPicPr/>
          <p:nvPr/>
        </p:nvPicPr>
        <p:blipFill>
          <a:blip r:embed="rId9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pic>
        <p:nvPicPr>
          <p:cNvPr id="556" name="Slika 2" descr=""/>
          <p:cNvPicPr/>
          <p:nvPr/>
        </p:nvPicPr>
        <p:blipFill>
          <a:blip r:embed="rId10"/>
          <a:stretch/>
        </p:blipFill>
        <p:spPr>
          <a:xfrm>
            <a:off x="5738760" y="907920"/>
            <a:ext cx="3038400" cy="482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Dijelimo li težinu s masom, za svaki ćemo uteg dobiti vrijednost 10 N/kg. Taj se količnik označava s </a:t>
            </a:r>
            <a:r>
              <a:rPr b="1" i="1" lang="hr-HR" sz="3200" spc="-1" strike="noStrike">
                <a:solidFill>
                  <a:srgbClr val="000000"/>
                </a:solidFill>
                <a:latin typeface="Calibri"/>
              </a:rPr>
              <a:t>g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Vrijedi da j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pa </a:t>
            </a: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jednadžba težine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tijela glasi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8" name="Picture 3" descr=""/>
          <p:cNvPicPr/>
          <p:nvPr/>
        </p:nvPicPr>
        <p:blipFill>
          <a:blip r:embed="rId4"/>
          <a:stretch/>
        </p:blipFill>
        <p:spPr>
          <a:xfrm>
            <a:off x="3995640" y="3860640"/>
            <a:ext cx="1220760" cy="1008360"/>
          </a:xfrm>
          <a:prstGeom prst="rect">
            <a:avLst/>
          </a:prstGeom>
          <a:ln w="0">
            <a:noFill/>
          </a:ln>
        </p:spPr>
      </p:pic>
      <p:pic>
        <p:nvPicPr>
          <p:cNvPr id="559" name="Picture 5" descr=""/>
          <p:cNvPicPr/>
          <p:nvPr/>
        </p:nvPicPr>
        <p:blipFill>
          <a:blip r:embed="rId5"/>
          <a:stretch/>
        </p:blipFill>
        <p:spPr>
          <a:xfrm>
            <a:off x="3780000" y="5589720"/>
            <a:ext cx="1841400" cy="382320"/>
          </a:xfrm>
          <a:prstGeom prst="rect">
            <a:avLst/>
          </a:prstGeom>
          <a:ln w="0">
            <a:noFill/>
          </a:ln>
        </p:spPr>
      </p:pic>
      <p:pic>
        <p:nvPicPr>
          <p:cNvPr id="560" name="Slika 3" descr=""/>
          <p:cNvPicPr/>
          <p:nvPr/>
        </p:nvPicPr>
        <p:blipFill>
          <a:blip r:embed="rId6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"/>
          <p:cNvSpPr txBox="1"/>
          <p:nvPr/>
        </p:nvSpPr>
        <p:spPr>
          <a:xfrm>
            <a:off x="323640" y="981000"/>
            <a:ext cx="439236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Sila teža jest sila kojom Zemlja djeluje na tijela na svojoj površini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Označavamo je sa </a:t>
            </a:r>
            <a:r>
              <a:rPr b="1" i="1" lang="hr-HR" sz="3200" spc="-1" strike="noStrike">
                <a:solidFill>
                  <a:srgbClr val="000000"/>
                </a:solidFill>
                <a:latin typeface="Calibri"/>
              </a:rPr>
              <a:t>Fg</a:t>
            </a:r>
            <a:r>
              <a:rPr b="0" i="1" lang="hr-HR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Zbog sile teže, tijela djeluju silom na podlogu na kojoj se nalaze ili na ovjes ako su ovješen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2" name="Picture 5" descr="sila teža na kvadar.jpg"/>
          <p:cNvPicPr/>
          <p:nvPr/>
        </p:nvPicPr>
        <p:blipFill>
          <a:blip r:embed="rId4"/>
          <a:stretch/>
        </p:blipFill>
        <p:spPr>
          <a:xfrm>
            <a:off x="4309920" y="1989000"/>
            <a:ext cx="4670640" cy="3219480"/>
          </a:xfrm>
          <a:prstGeom prst="rect">
            <a:avLst/>
          </a:prstGeom>
          <a:ln w="0">
            <a:noFill/>
          </a:ln>
        </p:spPr>
      </p:pic>
      <p:pic>
        <p:nvPicPr>
          <p:cNvPr id="563" name="Slika 3" descr=""/>
          <p:cNvPicPr/>
          <p:nvPr/>
        </p:nvPicPr>
        <p:blipFill>
          <a:blip r:embed="rId5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"/>
          <p:cNvSpPr txBox="1"/>
          <p:nvPr/>
        </p:nvSpPr>
        <p:spPr>
          <a:xfrm>
            <a:off x="250920" y="1071720"/>
            <a:ext cx="5473440" cy="47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Ovisi li težina tijela o mjestu na  kojemu se tijelo nalazi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Ovisi li težina tijela o sredstvu u kojem se tijelo nalazi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Pokus: 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izmjerite težinu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utega u zraku pa onda u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vodi. Što primječujet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5" name="Slika 3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pic>
        <p:nvPicPr>
          <p:cNvPr id="566" name="Slika 1" descr=""/>
          <p:cNvPicPr/>
          <p:nvPr/>
        </p:nvPicPr>
        <p:blipFill>
          <a:blip r:embed="rId4">
            <a:lum contrast="22000"/>
          </a:blip>
          <a:stretch/>
        </p:blipFill>
        <p:spPr>
          <a:xfrm>
            <a:off x="5867280" y="3173400"/>
            <a:ext cx="2764080" cy="30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"/>
          <p:cNvSpPr txBox="1"/>
          <p:nvPr/>
        </p:nvSpPr>
        <p:spPr>
          <a:xfrm>
            <a:off x="324000" y="1052640"/>
            <a:ext cx="822960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37944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Na uronjeno tijelo  tekućina  djeluje silom koja ga istiskuje. Ta se sila naziva </a:t>
            </a: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uzgon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i usmjerena je suprotno sili teži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7944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Arhimedovo načel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7944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Sila uzgona jednaka je težini tekućine što je istisne uronjeno tijel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7944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8" name="Slika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pic>
        <p:nvPicPr>
          <p:cNvPr id="569" name="Slika 1" descr=""/>
          <p:cNvPicPr/>
          <p:nvPr/>
        </p:nvPicPr>
        <p:blipFill>
          <a:blip r:embed="rId2"/>
          <a:stretch/>
        </p:blipFill>
        <p:spPr>
          <a:xfrm>
            <a:off x="4211640" y="5589720"/>
            <a:ext cx="3048120" cy="76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"/>
          <p:cNvSpPr txBox="1"/>
          <p:nvPr/>
        </p:nvSpPr>
        <p:spPr>
          <a:xfrm>
            <a:off x="222120" y="618840"/>
            <a:ext cx="8670960" cy="531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hr-HR" sz="3000" spc="-1" strike="noStrike">
                <a:solidFill>
                  <a:srgbClr val="000000"/>
                </a:solidFill>
                <a:latin typeface="Calibri"/>
              </a:rPr>
              <a:t>Razmislite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Calibri"/>
              </a:rPr>
              <a:t>1. 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Što je sila teža ,a što je težina tijela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2.  Je li težina tijela proporcionalna masi tijela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3.  Kako glasi izraz za težinu, a kako za silu težu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Težina tijela na Zemlji iznosi 1000N. Kolika je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masa, a kolika težina toga tijela na Mjesecu. Na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Zemlji je količnik </a:t>
            </a:r>
            <a:r>
              <a:rPr b="0" i="1" lang="hr-HR" sz="3200" spc="-1" strike="noStrike">
                <a:solidFill>
                  <a:srgbClr val="000000"/>
                </a:solidFill>
                <a:latin typeface="Calibri"/>
              </a:rPr>
              <a:t>g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= 10 N/kg , a na Mjesecu</a:t>
            </a:r>
            <a:r>
              <a:rPr b="0" i="1" lang="hr-HR" sz="3200" spc="-1" strike="noStrike">
                <a:solidFill>
                  <a:srgbClr val="000000"/>
                </a:solidFill>
                <a:latin typeface="Calibri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i="1" lang="hr-HR" sz="3200" spc="-1" strike="noStrike">
                <a:solidFill>
                  <a:srgbClr val="000000"/>
                </a:solidFill>
                <a:latin typeface="Calibri"/>
              </a:rPr>
              <a:t>g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= 1.63 N/k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1" name="Slika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pic>
        <p:nvPicPr>
          <p:cNvPr id="572" name="Slika 1" descr=""/>
          <p:cNvPicPr/>
          <p:nvPr/>
        </p:nvPicPr>
        <p:blipFill>
          <a:blip r:embed="rId2"/>
          <a:stretch/>
        </p:blipFill>
        <p:spPr>
          <a:xfrm>
            <a:off x="250920" y="633240"/>
            <a:ext cx="1074600" cy="11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12T12:56:52Z</dcterms:created>
  <dc:creator>Mladen Vidović</dc:creator>
  <dc:description/>
  <dc:language>en-US</dc:language>
  <cp:lastModifiedBy>MArina Dumančić</cp:lastModifiedBy>
  <dcterms:modified xsi:type="dcterms:W3CDTF">2019-09-14T13:38:31Z</dcterms:modified>
  <cp:revision>37</cp:revision>
  <dc:subject/>
  <dc:title>Sila teža i težina tijela</dc:title>
</cp:coreProperties>
</file>